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EAB456-FE6C-4B88-8D4E-A3D82EAD0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FF343-7205-4EFF-BDBE-A6F4A4195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19073-B9E0-4093-8295-3AEA8D68D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E7E55-BB29-4D43-9030-29F6FD670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5787E-9073-4174-A124-960BC03A0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099FE-5F21-4B22-9B43-015EDBB05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685EE-21D5-4128-B10D-1BCF8A694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C7F8A-541E-4D5E-BB9B-5B5A9A2DD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3AE94-0CF2-4D61-92A4-656D7C02A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4D2D5-C3B3-4363-AF50-486F448A0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7B559-8006-4814-A552-661976931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0683F-5A69-44D9-9ACC-9129CD99B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DA56-6A5E-4EF7-947D-8C4679D7BD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n Lennox,</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ige Fasnacht</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after hearing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that night while tending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me</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Trust your instincts</a:t>
            </a:r>
            <a:endParaRPr b="0" lang="en-US" sz="7200" spc="-1" strike="noStrike">
              <a:solidFill>
                <a:srgbClr val="000000"/>
              </a:solidFill>
              <a:latin typeface="Times New Roman"/>
            </a:endParaRPr>
          </a:p>
        </p:txBody>
      </p:sp>
      <p:pic>
        <p:nvPicPr>
          <p:cNvPr id="49" name="" descr=""/>
          <p:cNvPicPr/>
          <p:nvPr/>
        </p:nvPicPr>
        <p:blipFill>
          <a:blip r:embed="rId1"/>
          <a:stretch/>
        </p:blipFill>
        <p:spPr>
          <a:xfrm>
            <a:off x="4946760" y="1981080"/>
            <a:ext cx="32115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as Orlick’s reason for seeking revenge on Pip?</a:t>
            </a:r>
            <a:endParaRPr b="0" lang="en-US" sz="2000" spc="-1" strike="noStrike">
              <a:solidFill>
                <a:srgbClr val="000000"/>
              </a:solidFill>
              <a:latin typeface="Times New Roman"/>
            </a:endParaRPr>
          </a:p>
          <a:p>
            <a:pPr marL="533520" indent="-53352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do you think Orlick goes after escaping from Herbert and his group?</a:t>
            </a:r>
            <a:endParaRPr b="0" lang="en-US" sz="2000" spc="-1" strike="noStrike">
              <a:solidFill>
                <a:srgbClr val="000000"/>
              </a:solidFill>
              <a:latin typeface="Times New Roman"/>
            </a:endParaRPr>
          </a:p>
          <a:p>
            <a:pPr marL="533520" indent="-53352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Mrs. Joe die from her first injury, being whacked by Orlick, or did he go back a second time and kill her?</a:t>
            </a:r>
            <a:endParaRPr b="0" lang="en-US" sz="2000" spc="-1" strike="noStrike">
              <a:solidFill>
                <a:srgbClr val="000000"/>
              </a:solidFill>
              <a:latin typeface="Times New Roman"/>
            </a:endParaRPr>
          </a:p>
        </p:txBody>
      </p:sp>
      <p:pic>
        <p:nvPicPr>
          <p:cNvPr id="52"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p, Herbert, and Startop made there way to Clara’s house on the Thames river to retrieve Magwitch to help him escape. Pip and Magwitch plan to get on another boat, but while on their way, another rowboat shows up with Compeyson in it. Magwitch and Compeyson jump into the water and attack each other and only Magwitch resurfaces. He is chained up and led away to prison.</a:t>
            </a:r>
            <a:endParaRPr b="0" lang="en-US" sz="20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6" name="" descr=""/>
          <p:cNvPicPr/>
          <p:nvPr/>
        </p:nvPicPr>
        <p:blipFill>
          <a:blip r:embed="rId1"/>
          <a:stretch/>
        </p:blipFill>
        <p:spPr>
          <a:xfrm>
            <a:off x="4419720" y="2057400"/>
            <a:ext cx="4267080" cy="355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MTSD MTSD</cp:lastModifiedBy>
  <dcterms:modified xsi:type="dcterms:W3CDTF">2009-03-02T19:20:03Z</dcterms:modified>
  <cp:revision>7</cp:revision>
  <dc:subject/>
  <dc:title>Great Expectations Chapters 53-54</dc:title>
</cp:coreProperties>
</file>